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A9E-3AEB-475B-9AAB-04578224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864-676E-45C9-A508-02E195AE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A86-DB9F-40C0-9360-6AA2A600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F33-03EF-4642-BACB-A23D64DA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8488-9067-4799-8F17-8D0ED352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E3B2-1F58-4D4B-831F-9F1C5012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7DB5-216C-4C49-AA7D-FC8C714B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0B59-6B92-46C9-B4E0-D2650EF5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5B9B-9BD8-4BA6-A921-FE02623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3FB6-5BF0-4B94-908A-274D186D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A444-40C8-442A-A873-E0A0FE6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35A-1D31-471C-865A-6F948E4C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5A18-7B83-4C96-A15F-C0A7153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086A-D30D-4653-B394-051FFC6C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BAB2-722E-4167-8585-8883CD4E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223F-E10C-4FD0-B35E-1BB963CA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BE0F-F108-42C5-83B7-CCBC66D0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B4B-8422-492C-A8D9-82AEE93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940-2F93-4F69-9C20-A1E89439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636-872A-4B70-9404-786EDBBA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5DE-77ED-4635-879F-CC59BD0C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CE0-B25A-433A-9FBD-0CF2FEC0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000-D2F8-49BF-84B2-33980ED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71C-297F-4FA1-A8F6-856798B0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CBD-21BE-444A-92DF-9777AA7979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887B-B3E6-49AF-B7D9-B25F62C022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27000"/>
            <a:ext cx="9144000" cy="6858000"/>
            <a:chOff x="0" y="27000"/>
            <a:chExt cx="9144000" cy="6858000"/>
          </a:xfrm>
        </p:grpSpPr>
        <p:sp>
          <p:nvSpPr>
            <p:cNvPr id="82" name=""/>
            <p:cNvSpPr/>
            <p:nvPr/>
          </p:nvSpPr>
          <p:spPr>
            <a:xfrm>
              <a:off x="0" y="27000"/>
              <a:ext cx="2987640" cy="6858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4117"/>
                  </a:srgbClr>
                </a:gs>
                <a:gs pos="100000">
                  <a:srgbClr val="bbe0e3">
                    <a:alpha val="54117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56360" y="27000"/>
              <a:ext cx="2987640" cy="6858000"/>
            </a:xfrm>
            <a:prstGeom prst="rect">
              <a:avLst/>
            </a:prstGeom>
            <a:gradFill rotWithShape="0">
              <a:gsLst>
                <a:gs pos="0">
                  <a:srgbClr val="b1edea">
                    <a:alpha val="54117"/>
                  </a:srgbClr>
                </a:gs>
                <a:gs pos="100000">
                  <a:srgbClr val="fffff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62120" y="380880"/>
            <a:ext cx="777708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yszukiwanie informac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 Interne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591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50920" y="189000"/>
            <a:ext cx="66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yszukiwanie zaawansowane - czyli jak trafić w dziesiątk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1628640"/>
            <a:ext cx="7920000" cy="46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m więcej podasz kryteriów tym węższy zasób informacji (stron www) dostaniesz w odpowiedzi, a tym samym szybciej dotrzesz do informacji, których potrzebujes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śli szukasz n.p. informacji o noclegach w Krakowie – nie wpisuj samych słów: Kraków (otrzymasz wszystkie strony związane z Krakowem, niewielka jednak część będzie na temat noclegów w Krakowie) czy nocleg (otrzymasz wszystkie strony związane z nolegami, niewielka jednak część będzie na temat noclegów w Krakowie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korzystaj z koniunkcji słów: Kraków i nocl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50920" y="189000"/>
            <a:ext cx="66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yszukiwanie zaawansowane- jak to się rob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438280"/>
            <a:ext cx="8136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cąc szybciej dotrzeć do potrzebnych Ci informacji skorzystaj z formularza wyszukiwania zaawansowanego, dostępnego w każdej wyszukiwar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z pozwala na wybór wielu kryteriów, według których możesz prowadzić poszukiwania potrzebnych informac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50920" y="476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rmularz wyszukiwania zaawansowa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628640"/>
            <a:ext cx="867564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z wyszukiwania zaawansowanego umożliwia wyszukiwanie stron m.in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wierających wszystkie słowa (koniunkcj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wierających jakiekolwiek ze słów (alternatyw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 zawierających słów (wykluczeni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wierających konkretne wyrażenie (frazę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z wyszukiwawczy umożliwia także ograniczenie zbioru wyszukanych stron m.in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ormatu plik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en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y dodania strony do zasobów wyszukiwar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ormularz wyszukiwawczy na przykładzie wyszukiwarki Goog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63600" y="947880"/>
          <a:ext cx="8418600" cy="49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947880"/>
                    <a:ext cx="8418600" cy="49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0920" y="476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rmularz wyszukiwania zaawansowa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30481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następnym slajdzie zobaczysz animację przedstawiającą wyszukiwanie za pomocą formularza wyszukiwania zaawansowanego w Goo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jdź do następnego slajdu i nie klikaj – animacja uruchomi się s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38400" y="571680"/>
            <a:ext cx="6667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50920" y="189000"/>
            <a:ext cx="66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yszukiwanie zaawansowane- można na skró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1628640"/>
            <a:ext cx="835344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ożesz także wyszukiwać według paru kryteriów, korzystając z okienka wyszukiwarki i wpisując kombinacje słów (fraz) kluczowych oraz określonych znak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ie wszystkie kryteria możesz uwzględnić, szukając poprzez kombinacje słów lub oraz określonych znaków, dlatego korzystaj z formularza wyszukiwania zaawansowan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a następnym slajdzie zobaczysz animację prezentującą  wyszukiwanie przy pomocy kombinacji słów oraz określonych znaków w wyszukiwarce Goog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294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50920" y="40464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yszukiwanie graf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060640"/>
            <a:ext cx="835344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eśli chcesz wyszukać tylko grafikę – na przykład zdjęcia lub obrazy, skorzystaj z linku 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Grafik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znajdującego się nad okienkiem wyszukiwania w Google – dzięki temu w wynikach wyszukiwania otrzymasz same obrazy wraz z linkiem odsyłającym do źródła, z którego obraz pochodz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a następnym slajdzie zobaczysz animację przedstawiającą wyszukiwanie grafiki w wyszukiwarce Goog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65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88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zym jest wyszukiwar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484280"/>
            <a:ext cx="5256000" cy="525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6165720"/>
            <a:ext cx="25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773360"/>
            <a:ext cx="4249800" cy="43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3213000"/>
            <a:ext cx="27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ASOBY ZAINDEKSOWANE PRZEZ WYSZUKIWAR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1989000"/>
            <a:ext cx="324000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yszukiwarka to mechanizm, który za pomocą specjalnego oprogramowania przemierza Internet i dodaje do swoich zasobów strony ww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Żadna wyszukiwarka nie indeksuje całych zasobów Interne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3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50920" y="260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ięcej informacj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2349360"/>
            <a:ext cx="5616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śli chcesz głębiej wgryźć się w meandry wyszukiwania informacji w Internecie, zajrzyj do przewodnika - znajdziesz tam wiele ciekawostek, które znacznie ułatwią  i uprzyjemnią przemierzanie Interne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99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Nie tylko Goog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1700280"/>
            <a:ext cx="360036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ażda wyszukiwarka indeksuje część Internetu – w ten sposób gromadzi zasoby (bazę danych), które są przeszukiwane za pomocą słowa kluczowego wpisanego przez Użytkownika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óżne wyszukiwarki mogą indeksować te same, ale także różne strony ww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989000"/>
            <a:ext cx="4321440" cy="44643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181080" y="1773360"/>
          <a:ext cx="521964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773360"/>
                    <a:ext cx="521964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763640" y="5734080"/>
            <a:ext cx="25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3203640" cy="17748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5092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ak działa wyszukiwar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70028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773360"/>
            <a:ext cx="252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pisujesz słowo kluczowe do okienka wyszukiwania- podajesz kryteria, według których mają zostać wyszukane strony w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58136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zm wyszukiwarki  przeszukuje zasoby wybierając te strony, które pasują do Twojego zapy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65300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postawie ustalonych przez Ciebie kryteriów mechanizm selekcjonuje wyniki i pozycjonuje je od najtrafniejszych do najmniej traf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2133720"/>
            <a:ext cx="324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szukiwarka przedstawia wyniki wyszukiwania, czyli uszeregowane opisy stron, które odpowiadają na Twoje pytanie- słowo kluczowe, które wpisałeś do okienka wyszuki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971600">
            <a:off x="1692360" y="3789000"/>
            <a:ext cx="647640" cy="863640"/>
          </a:xfrm>
          <a:prstGeom prst="downArrow">
            <a:avLst>
              <a:gd name="adj1" fmla="val 50000"/>
              <a:gd name="adj2" fmla="val 33338"/>
            </a:avLst>
          </a:prstGeom>
          <a:solidFill>
            <a:srgbClr val="bbe0e3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3673080" y="4903560"/>
            <a:ext cx="648000" cy="1009800"/>
          </a:xfrm>
          <a:prstGeom prst="downArrow">
            <a:avLst>
              <a:gd name="adj1" fmla="val 50000"/>
              <a:gd name="adj2" fmla="val 38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1962200">
            <a:off x="7235640" y="3860280"/>
            <a:ext cx="647640" cy="1008360"/>
          </a:xfrm>
          <a:prstGeom prst="downArrow">
            <a:avLst>
              <a:gd name="adj1" fmla="val 50000"/>
              <a:gd name="adj2" fmla="val 389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ózg wyszukiwar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1844640"/>
            <a:ext cx="748980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soby wyszukiwarki są organizowane w oparciu o zasady logiki Boole’a – poznając te zasady poznajesz „sposób myślenia wyszukiwarki”, dzięki czemu będziesz wiedzieć, jak szukać, aby szybko i sprawnie znaleźć to czego szukas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79280" y="476280"/>
            <a:ext cx="6626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549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Logika Boole’a – tok myślowy wyszukiwar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060640"/>
            <a:ext cx="8135640" cy="36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sady logiki Boole’a, które organizują zasady działania wyszukiware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oniunkcja (AND- 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lternatywa (OR - lub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kluczenie (NOT – nie, „-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86200" y="3505320"/>
            <a:ext cx="4033800" cy="1800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1148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12720" y="369576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944720" y="4490640"/>
            <a:ext cx="0" cy="64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505320"/>
            <a:ext cx="4033800" cy="1800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7524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eneralnie wyszukiwarki działają domyślnie w oparciu o koniunkcję. Oznacza to, że po wpisaniu słów oddzielonych spacją: Bolek Lolek, wyszukane zostaną strony zawierające zarówno słowo „Bolek” jak i „Lolek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3505320"/>
            <a:ext cx="2209680" cy="1800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114800"/>
            <a:ext cx="151128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Bolek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 i 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L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53352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Koniunkcja – „i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1628640"/>
            <a:ext cx="47527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62864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6576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B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095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lkość liter nie ma znacz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505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ynik wyszukiw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9144000" cy="2637000"/>
            </a:xfrm>
            <a:prstGeom prst="rect">
              <a:avLst/>
            </a:prstGeom>
            <a:gradFill rotWithShape="0">
              <a:gsLst>
                <a:gs pos="0">
                  <a:srgbClr val="b1edea">
                    <a:alpha val="63137"/>
                  </a:srgbClr>
                </a:gs>
                <a:gs pos="100000">
                  <a:srgbClr val="ffffff">
                    <a:alpha val="5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6274"/>
                  </a:srgbClr>
                </a:gs>
                <a:gs pos="100000">
                  <a:srgbClr val="b1edea">
                    <a:alpha val="7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22320">
            <a:solidFill>
              <a:srgbClr val="b1e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ternatywa – „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01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esz jednak sprawić, że wyszukiwarki będą działać w oparciu o alternatywę. Po wpisaniu Bolek OR Lolek, wyszukane zostaną strony, zawierające słowa: Bolek, Lolek oraz strony ze słowami Bolek i Lo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962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yniki wyszuki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419720"/>
            <a:ext cx="1676520" cy="136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4419720"/>
            <a:ext cx="5790960" cy="1368360"/>
            <a:chOff x="1219320" y="4419720"/>
            <a:chExt cx="5790960" cy="1368360"/>
          </a:xfrm>
        </p:grpSpPr>
        <p:sp>
          <p:nvSpPr>
            <p:cNvPr id="166" name=""/>
            <p:cNvSpPr/>
            <p:nvPr/>
          </p:nvSpPr>
          <p:spPr>
            <a:xfrm>
              <a:off x="3276720" y="4419720"/>
              <a:ext cx="1676160" cy="1368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57600" y="4800600"/>
              <a:ext cx="1511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o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4120" y="4419720"/>
              <a:ext cx="1676160" cy="1368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6400" y="457200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Arial"/>
                </a:rPr>
                <a:t>Bolek 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Arial"/>
                </a:rPr>
                <a:t>i 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Arial"/>
                </a:rPr>
                <a:t>Lol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19320" y="4876920"/>
              <a:ext cx="1511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Arial"/>
                </a:rPr>
                <a:t>Bole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7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0"/>
                <a:ext cx="9144000" cy="2637000"/>
              </a:xfrm>
              <a:prstGeom prst="rect">
                <a:avLst/>
              </a:prstGeom>
              <a:gradFill rotWithShape="0">
                <a:gsLst>
                  <a:gs pos="0">
                    <a:srgbClr val="b1edea">
                      <a:alpha val="63137"/>
                    </a:srgbClr>
                  </a:gs>
                  <a:gs pos="100000">
                    <a:srgbClr val="ffffff">
                      <a:alpha val="5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6021360"/>
                <a:ext cx="9144000" cy="83664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86274"/>
                    </a:srgbClr>
                  </a:gs>
                  <a:gs pos="100000">
                    <a:srgbClr val="b1edea">
                      <a:alpha val="7137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2320">
              <a:solidFill>
                <a:srgbClr val="b1ed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09880" y="3429000"/>
            <a:ext cx="3810240" cy="274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1557360"/>
            <a:ext cx="77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ożesz również zdecydować, aby wyszukiwarka wyszukiwała tylko strony zawierające słowo „Bolek”. Po wpisaniu Bolek –Lolek otrzymasz tylko strony ze słowem „Bolek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440208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4762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ykluczenie: „-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olek i Lo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733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ol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91120"/>
            <a:ext cx="3311640" cy="1366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006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Arial"/>
              </a:rPr>
              <a:t>Bol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5812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5812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ynik wyszukiw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59:43Z</dcterms:created>
  <dc:creator>Fajna babeczka</dc:creator>
  <dc:description/>
  <dc:language>en-US</dc:language>
  <cp:lastModifiedBy>Karolina Grodeck</cp:lastModifiedBy>
  <dcterms:modified xsi:type="dcterms:W3CDTF">2008-07-22T08:05:49Z</dcterms:modified>
  <cp:revision>42</cp:revision>
  <dc:subject/>
  <dc:title>Slajd 1</dc:title>
</cp:coreProperties>
</file>