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ct" ContentType="image/x-pict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734C-22E6-4D68-A44C-455D35DF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9B63-5C1F-42E9-9220-60ACADD2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0DA1-3C48-41CA-9C13-99A7BD90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2AB-82E3-4FB6-ABAD-89D72BEE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A23A-F6A4-45CC-B4B7-6BBFECD7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B717-9E19-4A7A-AAE5-43C7F062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45E2-600B-43AB-BFF0-8925D77C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EA24-2203-4434-A76D-F4BFF06E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93DA-5CC0-4E20-A73A-47B62AFC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E440-DC09-42CA-8DB0-E6B8C159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4CA2-24F4-493F-8D1D-0F06A51C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CE4A-626E-4BD3-90EA-3BFB535F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483E-3191-4645-B120-6C6708E2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8F05-2138-4F43-A0BC-268E9411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C63C-368E-425F-AF3B-D2E91F75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566E-8B30-4676-8C61-0D9666E1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C35B-E3A3-4282-8FE3-8B4D41DB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5864-1C4A-48C4-B412-F0A4E427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828-CB70-4704-9D7C-BEACED42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3919-2120-4750-847E-5BDD50B8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421-6BFD-41C4-A844-CF6165FA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A811-F30F-476F-BE22-1D06FD39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B89-8620-42DF-B127-E0FE663E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3D88-3DEE-4126-BD53-583E3BB9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5E9C-5097-4240-B75B-44609DC6D5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BB3A-AD33-4CF8-9E7A-8222FC2BCA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27000"/>
            <a:ext cx="9144000" cy="6858000"/>
            <a:chOff x="0" y="27000"/>
            <a:chExt cx="9144000" cy="6858000"/>
          </a:xfrm>
        </p:grpSpPr>
        <p:sp>
          <p:nvSpPr>
            <p:cNvPr id="82" name=""/>
            <p:cNvSpPr/>
            <p:nvPr/>
          </p:nvSpPr>
          <p:spPr>
            <a:xfrm>
              <a:off x="0" y="27000"/>
              <a:ext cx="2987640" cy="6858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4117"/>
                  </a:srgbClr>
                </a:gs>
                <a:gs pos="100000">
                  <a:srgbClr val="bbe0e3">
                    <a:alpha val="54117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56360" y="27000"/>
              <a:ext cx="2987640" cy="6858000"/>
            </a:xfrm>
            <a:prstGeom prst="rect">
              <a:avLst/>
            </a:prstGeom>
            <a:gradFill rotWithShape="0">
              <a:gsLst>
                <a:gs pos="0">
                  <a:srgbClr val="b1edea">
                    <a:alpha val="54117"/>
                  </a:srgbClr>
                </a:gs>
                <a:gs pos="100000">
                  <a:srgbClr val="ffffff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762120" y="380880"/>
            <a:ext cx="7777080" cy="14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yszukiwanie informacj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 Interne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375912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8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50920" y="189000"/>
            <a:ext cx="662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yszukiwanie zaawansowane - czyli jak trafić w dziesiątk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1628640"/>
            <a:ext cx="7920000" cy="46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m więcej podasz kryteriów tym węższy zasób informacji (stron www) dostaniesz w odpowiedzi, a tym samym szybciej dotrzesz do informacji, których potrzebujesz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eśli szukasz n.p. informacji o noclegach w Krakowie – nie wpisuj samych słów: Kraków (otrzymasz wszystkie strony związane z Krakowem, niewielka jednak część będzie na temat noclegów w Krakowie) czy nocleg (otrzymasz wszystkie strony związane z nolegami, niewielka jednak część będzie na temat noclegów w Krakowie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korzystaj z koniunkcji słów: Kraków i nocl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9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95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50920" y="189000"/>
            <a:ext cx="662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Wyszukiwanie zaawansowane- jak to się rob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438280"/>
            <a:ext cx="813600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cąc szybciej dotrzeć do potrzebnych Ci informacji skorzystaj z formularza wyszukiwania zaawansowanego, dostępnego w każdej wyszukiwar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ularz pozwala na wybór wielu kryteriów, według których możesz prowadzić poszukiwania potrzebnych informac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02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50920" y="476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ormularz wyszukiwania zaawansowan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628640"/>
            <a:ext cx="867564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ularz wyszukiwania zaawansowanego umożliwia wyszukiwanie stron m.in.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wierających wszystkie słowa (koniunkcja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wierających jakiekolwiek ze słów (alternatywa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e zawierających słów (wykluczeni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wierających konkretne wyrażenie (frazę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ularz wyszukiwawczy umożliwia także ograniczenie zbioru wyszukanych stron m.in.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ormatu plik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en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y dodania strony do zasobów wyszukiwar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95280" y="2602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ormularz wyszukiwawczy na przykładzie wyszukiwarki Goog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63600" y="947880"/>
          <a:ext cx="8418600" cy="49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947880"/>
                    <a:ext cx="8418600" cy="49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88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79280" y="47628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zym jest wyszukiwark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1484280"/>
            <a:ext cx="5256000" cy="525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4000" y="6165720"/>
            <a:ext cx="25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773360"/>
            <a:ext cx="4249800" cy="4392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3213000"/>
            <a:ext cx="273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ASOBY ZAINDEKSOWANE PRZEZ WYSZUKIWAR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1989000"/>
            <a:ext cx="3240000" cy="41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yszukiwarka to mechanizm, który za pomocą specjalnego oprogramowania przemierza Internet i dodaje do swoich zasobów strony ww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Żadna wyszukiwarka nie indeksuje całych zasobów Interne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99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79280" y="47628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Nie tylko Goog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1700280"/>
            <a:ext cx="3600360" cy="45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ażda wyszukiwarka indeksuje część Internetu – w ten sposób gromadzi zasoby (bazę danych), które są przeszukiwane za pomocą słowa kluczowego wpisanego przez Użytkownika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óżne wyszukiwarki mogą indeksować te same, ale także różne strony ww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989000"/>
            <a:ext cx="4321440" cy="44643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-181080" y="1773360"/>
          <a:ext cx="521964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773360"/>
                    <a:ext cx="521964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763640" y="5734080"/>
            <a:ext cx="25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3203640" cy="177480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1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50920" y="47628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Jak działa wyszukiwark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70028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773360"/>
            <a:ext cx="252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pisujesz słowo kluczowe do okienka wyszukiwania- podajesz kryteria, według których mają zostać wyszukane stron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458136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zm wyszukiwarki  przeszukuje zasoby wybierając te strony, które pasują do Twojego zapyt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65300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postawie ustalonych przez Ciebie kryteriów mechanizm selekcjonuje wyniki i pozycjonuje je od najtrafniejszych do najmniej traf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2133720"/>
            <a:ext cx="324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szukiwarka przedstawia wyniki wyszukiwania, czyli uszeregowane opisy stron, które odpowiadają na Twoje pytanie- słowo kluczowe, które wpisałeś do okienka wyszukiw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971600">
            <a:off x="1692360" y="3789000"/>
            <a:ext cx="647640" cy="863640"/>
          </a:xfrm>
          <a:prstGeom prst="downArrow">
            <a:avLst>
              <a:gd name="adj1" fmla="val 50000"/>
              <a:gd name="adj2" fmla="val 33338"/>
            </a:avLst>
          </a:prstGeom>
          <a:solidFill>
            <a:srgbClr val="bbe0e3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3673080" y="4903560"/>
            <a:ext cx="648000" cy="1009800"/>
          </a:xfrm>
          <a:prstGeom prst="downArrow">
            <a:avLst>
              <a:gd name="adj1" fmla="val 50000"/>
              <a:gd name="adj2" fmla="val 38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1962200">
            <a:off x="7235640" y="3860280"/>
            <a:ext cx="647640" cy="1008360"/>
          </a:xfrm>
          <a:prstGeom prst="downArrow">
            <a:avLst>
              <a:gd name="adj1" fmla="val 50000"/>
              <a:gd name="adj2" fmla="val 389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79280" y="47628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ózg wyszukiwar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1844640"/>
            <a:ext cx="7489800" cy="36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soby wyszukiwarki są organizowane w oparciu o zasady logiki Boole’a – poznając te zasady poznajesz „sposób myślenia wyszukiwarki”, dzięki czemu będziesz wiedzieć, jak szukać, aby szybko i sprawnie znaleźć to czego szukas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32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79280" y="476280"/>
            <a:ext cx="6626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54936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Logika Boole’a – tok myślowy wyszukiwar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2060640"/>
            <a:ext cx="8135640" cy="36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sady logiki Boole’a, które organizują zasady działania wyszukiware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oniunkcja (AND- i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lternatywa (OR - lub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ykluczenie (NOT – nie, „-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886200" y="3505320"/>
            <a:ext cx="4033800" cy="1800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41148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l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12720" y="3695760"/>
            <a:ext cx="15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944720" y="4490640"/>
            <a:ext cx="0" cy="646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3505320"/>
            <a:ext cx="4033800" cy="1800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7524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eneralnie wyszukiwarki działają domyślnie w oparciu o koniunkcję. Oznacza to, że po wpisaniu słów oddzielonych spacją: Bolek Lolek, wyszukane zostaną strony zawierające zarówno słowo „Bolek” jak i „Lolek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3505320"/>
            <a:ext cx="2209680" cy="18000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114800"/>
            <a:ext cx="151128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Bolek</a:t>
            </a: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 i </a:t>
            </a: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Lol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533520"/>
            <a:ext cx="66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Koniunkcja – „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1628640"/>
            <a:ext cx="47527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628640"/>
            <a:ext cx="36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6576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Bol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0958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lkość liter nie ma znacz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35053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ynik wyszukiw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9144000" cy="2637000"/>
            </a:xfrm>
            <a:prstGeom prst="rect">
              <a:avLst/>
            </a:prstGeom>
            <a:gradFill rotWithShape="0">
              <a:gsLst>
                <a:gs pos="0">
                  <a:srgbClr val="b1edea">
                    <a:alpha val="63137"/>
                  </a:srgbClr>
                </a:gs>
                <a:gs pos="100000">
                  <a:srgbClr val="ffffff">
                    <a:alpha val="5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86274"/>
                  </a:srgbClr>
                </a:gs>
                <a:gs pos="100000">
                  <a:srgbClr val="b1edea">
                    <a:alpha val="7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2320">
            <a:solidFill>
              <a:srgbClr val="b1ed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47628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lternatywa – „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676520"/>
            <a:ext cx="701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esz jednak sprawić, że wyszukiwarki będą działać w oparciu o alternatywę. Po wpisaniu Bolek OR Lolek, wyszukane zostaną strony, zawierające słowa: Bolek, Lolek oraz strony ze słowami Bolek i Lo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3962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yniki wyszukiw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4419720"/>
            <a:ext cx="1676520" cy="1368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19320" y="4419720"/>
            <a:ext cx="5790960" cy="1368360"/>
            <a:chOff x="1219320" y="4419720"/>
            <a:chExt cx="5790960" cy="1368360"/>
          </a:xfrm>
        </p:grpSpPr>
        <p:sp>
          <p:nvSpPr>
            <p:cNvPr id="166" name=""/>
            <p:cNvSpPr/>
            <p:nvPr/>
          </p:nvSpPr>
          <p:spPr>
            <a:xfrm>
              <a:off x="3276720" y="4419720"/>
              <a:ext cx="1676160" cy="1368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57600" y="4800600"/>
              <a:ext cx="1511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ole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34120" y="4419720"/>
              <a:ext cx="1676160" cy="1368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86400" y="457200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Arial"/>
                </a:rPr>
                <a:t>Bolek </a:t>
              </a:r>
              <a:br>
                <a:rPr sz="1800"/>
              </a:br>
              <a:r>
                <a:rPr b="0" lang="pl-PL" sz="1800" spc="-1" strike="noStrike">
                  <a:solidFill>
                    <a:srgbClr val="ffffff"/>
                  </a:solidFill>
                  <a:latin typeface="Arial"/>
                </a:rPr>
                <a:t>i </a:t>
              </a:r>
              <a:br>
                <a:rPr sz="1800"/>
              </a:br>
              <a:r>
                <a:rPr b="0" lang="pl-PL" sz="1800" spc="-1" strike="noStrike">
                  <a:solidFill>
                    <a:srgbClr val="ffffff"/>
                  </a:solidFill>
                  <a:latin typeface="Arial"/>
                </a:rPr>
                <a:t>Lol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19320" y="4876920"/>
              <a:ext cx="1511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ffffff"/>
                  </a:solidFill>
                  <a:latin typeface="Arial"/>
                </a:rPr>
                <a:t>Bole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7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809880" y="3429000"/>
            <a:ext cx="3810240" cy="2743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2400" y="1557360"/>
            <a:ext cx="77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ożesz również zdecydować, aby wyszukiwarka wyszukiwała tylko strony zawierające słowo „Bolek”. Po wpisaniu Bolek –Lolek otrzymasz tylko strony ze słowem „Bolek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84720" y="4402080"/>
            <a:ext cx="15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l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47628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Wykluczenie: „-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334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olek i Lol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638680" y="3733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ol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4191120"/>
            <a:ext cx="3311640" cy="1366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8006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Bol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35812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35812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ynik wyszukiw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7:59:43Z</dcterms:created>
  <dc:creator>Fajna babeczka</dc:creator>
  <dc:description/>
  <dc:language>en-US</dc:language>
  <cp:lastModifiedBy>Karolina Grodeck</cp:lastModifiedBy>
  <dcterms:modified xsi:type="dcterms:W3CDTF">2008-07-22T10:25:20Z</dcterms:modified>
  <cp:revision>43</cp:revision>
  <dc:subject/>
  <dc:title>Slajd 1</dc:title>
</cp:coreProperties>
</file>